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78F-EDBD-441C-B15F-147972520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A6FC-A2BF-43D4-9497-20FF8E490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BED-5286-423F-85C9-059DA2D4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6DC-629E-4CCF-8E35-F6C05B4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5EA-3D65-4152-9ADB-BDF75993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7F5-1F69-4BC6-8755-9F51AE00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063-E1D5-48D5-A99A-E7B88172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700-38BE-4292-8038-61599256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FB4-4811-40A7-8AD2-5ECB148F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446-B6FF-4976-A1FE-687853EC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403-1149-4D76-931A-6F4F2E1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D96-1EF9-4382-90A6-1ABB5B7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AB7-A6C6-4176-AEDC-DB62D9D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09F-C20A-41C0-98EB-8766F5E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D600-C531-495E-B8C3-CB6271344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40AE-F9D7-4D58-BAEC-8D7CAB489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ма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C6C2-B1D9-41B3-B4D4-5A36FFD93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4-24T04:30:52Z</dcterms:modified>
  <cp:revision>168</cp:revision>
  <dc:subject/>
  <dc:title>Презентация PowerPoint</dc:title>
</cp:coreProperties>
</file>